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515-5091-46A2-A08F-C44302A8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E7-8CAD-4FD8-8979-E0DB9A0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6F5-19B2-4AE4-9FE8-F175DB5E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3B3-7341-4591-83C9-6066ED91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D9F-F18F-44D8-A12C-18BA9D9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519-1DC5-4B1F-91AB-564A465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5F3-CC83-424A-A3C2-0CBDD7B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10B-70B4-4D8B-89F0-1DD75A33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1F9-1433-4E42-8B47-B1632DD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C73-60F8-4EFD-926B-3FCC85B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84E-B233-4CA3-A910-2E60E19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8A4-C436-4EA5-9AC3-22F4F89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B3A-0090-48E4-92D5-CDCCAFCD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Engravers MT"/>
              </a:rPr>
              <a:t>After the St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Engravers MT"/>
              </a:rPr>
              <a:t>(Dopo la piogg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Don't you think it would be far bett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6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GB" sz="3600" spc="-1" strike="noStrike">
                <a:solidFill>
                  <a:srgbClr val="000000"/>
                </a:solidFill>
                <a:latin typeface="Engravers MT"/>
              </a:rPr>
              <a:t>to just pack in the stormy</a:t>
            </a: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Engravers MT"/>
              </a:rPr>
              <a:t>weather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3200" spc="-1" strike="noStrike">
                <a:solidFill>
                  <a:srgbClr val="000000"/>
                </a:solidFill>
                <a:latin typeface="Engravers MT"/>
              </a:rPr>
              <a:t>Just think how fast your heart would warm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to get a rainbow without a storm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688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400" spc="-1" strike="noStrike">
                <a:solidFill>
                  <a:srgbClr val="ffffff"/>
                </a:solidFill>
                <a:latin typeface="Engravers MT"/>
              </a:rPr>
              <a:t>A splendid thing it would be for sure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to always make peace</a:t>
            </a: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84963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without making w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Engravers MT"/>
              </a:rPr>
              <a:t>Gianni Rod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After the storm the skies will clea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that's when we see the rainbow appea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4560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Just like a bridge with banners that fl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3428640"/>
            <a:ext cx="837396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we cheer the sun </a:t>
            </a: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as it dances b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What joy it is 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to look up that wa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and see the ribbons that blow and swa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But you only can se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Engravers MT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Engravers MT"/>
              </a:rPr>
              <a:t>and this is what's sad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after a tempest fierce, 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cruel and mad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24:39Z</dcterms:created>
  <dc:creator>....</dc:creator>
  <dc:description/>
  <dc:language>en-US</dc:language>
  <cp:lastModifiedBy>....</cp:lastModifiedBy>
  <dcterms:modified xsi:type="dcterms:W3CDTF">2011-01-24T17:52:21Z</dcterms:modified>
  <cp:revision>20</cp:revision>
  <dc:subject/>
  <dc:title>After the Storm </dc:title>
</cp:coreProperties>
</file>